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wmf" ContentType="image/x-wmf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18.gif" ContentType="image/gif"/>
  <Override PartName="/ppt/media/image3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4.wmf" ContentType="image/x-wmf"/>
  <Override PartName="/ppt/media/image7.jpeg" ContentType="image/jpeg"/>
  <Override PartName="/ppt/media/image10.wmf" ContentType="image/x-wmf"/>
  <Override PartName="/ppt/media/image5.wmf" ContentType="image/x-wmf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11CDB-0557-4E07-BCAF-2AA132D2C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0A8CC-CDFD-4104-9CC5-423FA4113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AEE68-3E8C-4EB9-BEB3-F12D38BEE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9D3CA-C8C0-4A30-A528-FC9F2E418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976F5-38BF-40E9-BB76-92E494161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B1475-97FF-4223-8F7A-D11B512A7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8C544-6E65-4745-BEE5-63463A7AC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4B4C9-8501-40C5-B098-36049DB9D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08AE5-D0C7-4783-B6A1-E22626DC9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39F2B-6A9F-45E4-9B01-0EF9C8253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29273-4522-4846-9EB0-63DD87223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5A950-1BC7-412E-8F05-EBE4440B4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C50F5-E764-4B95-802C-FF41DF3F9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368B3-87AB-4D4A-B1AC-30A4C52D9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7D2BD-A8F2-40E4-90EB-3ECEF3128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F8C8B-6945-45D6-8222-AC3525EFA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78459-4DAE-4C54-A8FA-F0E83BA85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6F9EE-A450-4131-B76B-0D622B399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2595F-5E6B-4ACE-899D-191315588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99F79-8FA8-4107-B7D9-1063179A1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34C36-67E7-4C2C-88EC-618EC91D9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A1E93-90A7-457C-9486-965A9AD85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D9EC2-5441-430E-8224-09F314AE1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A2339-B8A8-477F-A9A1-20AB5E3A7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1" name="Rectangle 3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42EAD-3835-46BF-85C0-D698797980F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46" name="Rectangle 3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000000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Line 5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48B90-1AF6-4E9D-AD71-87841363C06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ffffff"/>
                </a:solidFill>
                <a:latin typeface="Times New Roman"/>
              </a:rPr>
              <a:t>The Quilt Story</a:t>
            </a:r>
            <a:br>
              <a:rPr sz="6200"/>
            </a:br>
            <a:r>
              <a:rPr b="0" lang="en-US" sz="6200" spc="-1" strike="noStrike">
                <a:solidFill>
                  <a:srgbClr val="ffffff"/>
                </a:solidFill>
                <a:latin typeface="Times New Roman"/>
              </a:rPr>
              <a:t>Vocabulary and Amazing Words</a:t>
            </a: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187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Grade Reading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98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898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stitch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o sew or fasten something with stitches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Picture 4" descr="MCHH00757_0000[1]"/>
          <p:cNvPicPr/>
          <p:nvPr/>
        </p:nvPicPr>
        <p:blipFill>
          <a:blip r:embed="rId1"/>
          <a:stretch/>
        </p:blipFill>
        <p:spPr>
          <a:xfrm>
            <a:off x="4267080" y="2362320"/>
            <a:ext cx="2890800" cy="38415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0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hatchet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 small ax with a handle about a foot long, for use with one hand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Picture 4" descr="MCj02960780000[1]"/>
          <p:cNvPicPr/>
          <p:nvPr/>
        </p:nvPicPr>
        <p:blipFill>
          <a:blip r:embed="rId1"/>
          <a:stretch/>
        </p:blipFill>
        <p:spPr>
          <a:xfrm>
            <a:off x="3124080" y="3179880"/>
            <a:ext cx="4038840" cy="352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0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patchwork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ieces of cloth of various colors or shapes sewed together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Picture 4" descr="MCSO01275_0000[1]"/>
          <p:cNvPicPr/>
          <p:nvPr/>
        </p:nvPicPr>
        <p:blipFill>
          <a:blip r:embed="rId1"/>
          <a:stretch/>
        </p:blipFill>
        <p:spPr>
          <a:xfrm>
            <a:off x="3352680" y="3124080"/>
            <a:ext cx="3103560" cy="32227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898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898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Amazing Words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40003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2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preserve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represent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valuable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tough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86480" y="1828800"/>
            <a:ext cx="40003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2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concentration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frown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homeland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patient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768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1" dur="768" fill="hold"/>
                                        <p:tgtEl>
                                          <p:spTgt spid="12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7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73" dur="768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7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75" dur="768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7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7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4" dur="5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1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5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2" dur="5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preserve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1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o keep protected from anything that would cause to be ruined or spoiled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Picture 5" descr="MCj01540600000[1]"/>
          <p:cNvPicPr/>
          <p:nvPr/>
        </p:nvPicPr>
        <p:blipFill>
          <a:blip r:embed="rId1"/>
          <a:stretch/>
        </p:blipFill>
        <p:spPr>
          <a:xfrm>
            <a:off x="3276720" y="3886200"/>
            <a:ext cx="2482560" cy="28764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0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represent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o stand for or symbolize something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Picture 4" descr="MCj03983230000[1]"/>
          <p:cNvPicPr/>
          <p:nvPr/>
        </p:nvPicPr>
        <p:blipFill>
          <a:blip r:embed="rId1"/>
          <a:stretch/>
        </p:blipFill>
        <p:spPr>
          <a:xfrm>
            <a:off x="3048120" y="3276720"/>
            <a:ext cx="2716200" cy="2743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7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valuable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orth something or important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Picture 4" descr="MCj01500380000[1]"/>
          <p:cNvPicPr/>
          <p:nvPr/>
        </p:nvPicPr>
        <p:blipFill>
          <a:blip r:embed="rId1"/>
          <a:stretch/>
        </p:blipFill>
        <p:spPr>
          <a:xfrm>
            <a:off x="2743200" y="2514600"/>
            <a:ext cx="3710160" cy="384660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0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8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3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tough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omething that is difficult to do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9" name="Picture 4" descr="MCj04280830000[1]"/>
          <p:cNvPicPr/>
          <p:nvPr/>
        </p:nvPicPr>
        <p:blipFill>
          <a:blip r:embed="rId1"/>
          <a:stretch/>
        </p:blipFill>
        <p:spPr>
          <a:xfrm>
            <a:off x="3200400" y="2438280"/>
            <a:ext cx="2982960" cy="349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10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concentration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1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inking about one thing very carefully.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Picture 4" descr="MCj04244740000[1]"/>
          <p:cNvPicPr/>
          <p:nvPr/>
        </p:nvPicPr>
        <p:blipFill>
          <a:blip r:embed="rId1"/>
          <a:stretch/>
        </p:blipFill>
        <p:spPr>
          <a:xfrm>
            <a:off x="3581280" y="2743200"/>
            <a:ext cx="3473640" cy="3668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0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frown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876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when you wrinkle your forehead and draw your eyebrows together, usually when you are worried, angry, or thinking.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5" name="Picture 4" descr="MCj04238440000[1]"/>
          <p:cNvPicPr/>
          <p:nvPr/>
        </p:nvPicPr>
        <p:blipFill>
          <a:blip r:embed="rId1"/>
          <a:stretch/>
        </p:blipFill>
        <p:spPr>
          <a:xfrm>
            <a:off x="5181480" y="3733920"/>
            <a:ext cx="2590920" cy="2504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0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6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1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cabular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40003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112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blankets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112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pretended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112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quilt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112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stuffing 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112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trunks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86480" y="1828800"/>
            <a:ext cx="40003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112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unpacked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112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wrapped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112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stitch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112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hatchet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112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patchwork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homeland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76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the country in which you were born and where you feel you belong. 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8" name="Picture 4" descr="j0309844"/>
          <p:cNvPicPr/>
          <p:nvPr/>
        </p:nvPicPr>
        <p:blipFill>
          <a:blip r:embed="rId1"/>
          <a:stretch/>
        </p:blipFill>
        <p:spPr>
          <a:xfrm>
            <a:off x="2209680" y="3200400"/>
            <a:ext cx="4267440" cy="294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fill="hold">
                      <p:stCondLst>
                        <p:cond delay="0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30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35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patient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to wait for something or put up with some trouble without complaining or getting upset.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1" name="Picture 4" descr="MMAG00466_0000[1]"/>
          <p:cNvPicPr/>
          <p:nvPr/>
        </p:nvPicPr>
        <p:blipFill>
          <a:blip r:embed="rId1"/>
          <a:stretch/>
        </p:blipFill>
        <p:spPr>
          <a:xfrm>
            <a:off x="4038480" y="3048120"/>
            <a:ext cx="1325520" cy="363852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fill="hold">
                      <p:stCondLst>
                        <p:cond delay="0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4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1" dur="1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blankets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oft, warm covering for beds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7" name="Picture 4" descr="MCj02324440000[1]"/>
          <p:cNvPicPr/>
          <p:nvPr/>
        </p:nvPicPr>
        <p:blipFill>
          <a:blip r:embed="rId1"/>
          <a:stretch/>
        </p:blipFill>
        <p:spPr>
          <a:xfrm>
            <a:off x="2971800" y="2743200"/>
            <a:ext cx="3122640" cy="33163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pretended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o make-believe that something is real when it is not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Picture 4" descr="MCFL00393_0000[1]"/>
          <p:cNvPicPr/>
          <p:nvPr/>
        </p:nvPicPr>
        <p:blipFill>
          <a:blip r:embed="rId1"/>
          <a:stretch/>
        </p:blipFill>
        <p:spPr>
          <a:xfrm>
            <a:off x="2666880" y="3470400"/>
            <a:ext cx="4496040" cy="31352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768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2" dur="768" fill="hold"/>
                                        <p:tgtEl>
                                          <p:spTgt spid="9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4" dur="768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6" dur="768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quilt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oft covering for a bed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Picture 4" descr="MCj01549580000[1]"/>
          <p:cNvPicPr/>
          <p:nvPr/>
        </p:nvPicPr>
        <p:blipFill>
          <a:blip r:embed="rId1"/>
          <a:stretch/>
        </p:blipFill>
        <p:spPr>
          <a:xfrm>
            <a:off x="2438280" y="2666880"/>
            <a:ext cx="3733920" cy="351468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stuffing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aterial used to fill or pack something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Picture 5" descr="MCj03292840000[1]"/>
          <p:cNvPicPr/>
          <p:nvPr/>
        </p:nvPicPr>
        <p:blipFill>
          <a:blip r:embed="rId1"/>
          <a:stretch/>
        </p:blipFill>
        <p:spPr>
          <a:xfrm>
            <a:off x="2971800" y="3581280"/>
            <a:ext cx="3657600" cy="263232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trunks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arge boxes for carrying clothes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Picture 4" descr="MCj02805920000[1]"/>
          <p:cNvPicPr/>
          <p:nvPr/>
        </p:nvPicPr>
        <p:blipFill>
          <a:blip r:embed="rId1"/>
          <a:stretch/>
        </p:blipFill>
        <p:spPr>
          <a:xfrm>
            <a:off x="2819520" y="3033720"/>
            <a:ext cx="3962160" cy="31464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898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898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unpacked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o take things out that were packed in a box, trunk, or other container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Picture 5" descr="MPj03143900000[1]"/>
          <p:cNvPicPr/>
          <p:nvPr/>
        </p:nvPicPr>
        <p:blipFill>
          <a:blip r:embed="rId1"/>
          <a:stretch/>
        </p:blipFill>
        <p:spPr>
          <a:xfrm>
            <a:off x="3276720" y="4114800"/>
            <a:ext cx="2436840" cy="27432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189" dur="2000" fill="hold"/>
                                        <p:tgtEl>
                                          <p:spTgt spid="1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wrapped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o cover with paper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Picture 4" descr="MPj04091570000[1]"/>
          <p:cNvPicPr/>
          <p:nvPr/>
        </p:nvPicPr>
        <p:blipFill>
          <a:blip r:embed="rId1"/>
          <a:srcRect l="0" t="37778" r="5019" b="11112"/>
          <a:stretch/>
        </p:blipFill>
        <p:spPr>
          <a:xfrm>
            <a:off x="2590920" y="2743200"/>
            <a:ext cx="3809880" cy="31291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768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2" dur="768" fill="hold"/>
                                        <p:tgtEl>
                                          <p:spTgt spid="11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0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04" dur="768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0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06" dur="768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0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7T23:06:14Z</dcterms:created>
  <dc:creator> </dc:creator>
  <dc:description/>
  <dc:language>en-US</dc:language>
  <cp:lastModifiedBy>Laura McDow</cp:lastModifiedBy>
  <dcterms:modified xsi:type="dcterms:W3CDTF">2010-07-29T10:01:25Z</dcterms:modified>
  <cp:revision>4</cp:revision>
  <dc:subject/>
  <dc:title>The Quilt Story Vocabulary and Amazing Words</dc:title>
</cp:coreProperties>
</file>